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bomb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applaus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3F4-74B8-4231-8809-3C5D4358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E5C-BCEC-41A2-BEA1-D2475350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7C7-D68F-492F-8E79-F6F96CAA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A7C-BB5F-4C1A-BBB2-DD3F6D22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F05-C34D-4D20-A535-2E9BAC6F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28E-400E-48B1-9C06-2034E616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485-AB3E-4353-B124-E900E9AF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AC1-17FD-45E4-9C44-DA70EB02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AF5-3C47-4BEB-ABAC-5E46E515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D3F-0061-4BE4-8BCB-B77422C7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216-EBDE-488C-987D-BB09531E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AE5-64D5-45D7-9A05-E6C2F3A4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1DCD-35F8-413F-95FC-06559083D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1.xml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324000" y="1773360"/>
            <a:ext cx="5976720" cy="576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Sania….. este încărcată cu daru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324000" y="2421000"/>
            <a:ext cx="6697440" cy="649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Copiii ….. bucurat de daruri frumo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324000" y="3141720"/>
            <a:ext cx="6696000" cy="574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Ei se dau cu sania …. cu  schiuri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24000" y="3789360"/>
            <a:ext cx="4464000" cy="5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Mama …. dat un colăc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324000" y="4437000"/>
            <a:ext cx="4464000" cy="5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Bănică …. nuci din s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324000" y="5084640"/>
            <a:ext cx="5760720" cy="5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Băieţii ….. zăpada de pe căr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324000" y="5734080"/>
            <a:ext cx="7920000" cy="5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Pe copii ….. găsit în faţa bradului împodob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6227640" y="4005360"/>
            <a:ext cx="2519640" cy="12952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o propoziţi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324000" y="1125360"/>
            <a:ext cx="4895640" cy="5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Copilul ….. jucat cu s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7561080" cy="865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Mama ….. dat un colăc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250920" y="321300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3203640" y="4292640"/>
            <a:ext cx="13669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250920" y="429264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3203640" y="3213000"/>
            <a:ext cx="1512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1547640" y="321300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4859280" y="4292640"/>
            <a:ext cx="165600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1547640" y="429264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932360" y="3213000"/>
            <a:ext cx="1368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6804000" y="3213000"/>
            <a:ext cx="2089080" cy="187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variant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rect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5445000"/>
            <a:ext cx="2089080" cy="1079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e face c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7345440" cy="865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Bănică ….. nuci din sac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250920" y="321300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3203640" y="4292640"/>
            <a:ext cx="13669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250920" y="429264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3203640" y="3213000"/>
            <a:ext cx="1512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1547640" y="321300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4859280" y="4292640"/>
            <a:ext cx="165600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1547640" y="429264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932360" y="3213000"/>
            <a:ext cx="1368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6804000" y="3213000"/>
            <a:ext cx="2089080" cy="187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variant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rect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5445000"/>
            <a:ext cx="2089080" cy="1079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e face c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7850160" cy="865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333399"/>
                </a:solidFill>
                <a:latin typeface="Arial"/>
              </a:rPr>
              <a:t>Băieţii …. zăpada de pe căr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250920" y="321300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3203640" y="4292640"/>
            <a:ext cx="13669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250920" y="429264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3203640" y="3213000"/>
            <a:ext cx="1512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1547640" y="321300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4859280" y="4292640"/>
            <a:ext cx="165600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1547640" y="429264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4932360" y="3213000"/>
            <a:ext cx="1368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6804000" y="3213000"/>
            <a:ext cx="2089080" cy="187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variant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rect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04000" y="5445000"/>
            <a:ext cx="2089080" cy="1079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e face c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7850160" cy="865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Pe copii …. găsit în faţa bradului împodob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250920" y="321300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3203640" y="4292640"/>
            <a:ext cx="13669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250920" y="429264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3203640" y="3213000"/>
            <a:ext cx="1512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1547640" y="321300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4859280" y="4292640"/>
            <a:ext cx="165600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1547640" y="429264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4932360" y="3213000"/>
            <a:ext cx="1368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6804000" y="3213000"/>
            <a:ext cx="2089080" cy="187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variant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rect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5445000"/>
            <a:ext cx="2089080" cy="1079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e face c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916280"/>
            <a:ext cx="8424720" cy="86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Copilul </a:t>
            </a:r>
            <a:r>
              <a:rPr b="1" lang="ro-RO" sz="4800" spc="-1" strike="noStrike">
                <a:solidFill>
                  <a:srgbClr val="ff6600"/>
                </a:solidFill>
                <a:latin typeface="Arial"/>
              </a:rPr>
              <a:t>s-a</a:t>
            </a: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 jucat cu sani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395280" y="3068640"/>
            <a:ext cx="8424720" cy="863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Copilul </a:t>
            </a:r>
            <a:r>
              <a:rPr b="1" lang="ro-RO" sz="4800" spc="-1" strike="noStrike">
                <a:solidFill>
                  <a:srgbClr val="ff6600"/>
                </a:solidFill>
                <a:latin typeface="Arial"/>
              </a:rPr>
              <a:t>se joacă</a:t>
            </a: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 cu sani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203640" y="4653000"/>
            <a:ext cx="1374840" cy="12762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0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372360" y="4437000"/>
            <a:ext cx="2305080" cy="194616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424720" cy="863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333399"/>
                </a:solidFill>
                <a:latin typeface="Arial"/>
              </a:rPr>
              <a:t>Sania </a:t>
            </a:r>
            <a:r>
              <a:rPr b="1" lang="ro-RO" sz="4000" spc="-1" strike="noStrike">
                <a:solidFill>
                  <a:srgbClr val="ff6600"/>
                </a:solidFill>
                <a:latin typeface="Arial"/>
              </a:rPr>
              <a:t>sa</a:t>
            </a:r>
            <a:r>
              <a:rPr b="1" lang="ro-RO" sz="4000" spc="-1" strike="noStrike">
                <a:solidFill>
                  <a:srgbClr val="333399"/>
                </a:solidFill>
                <a:latin typeface="Arial"/>
              </a:rPr>
              <a:t> este încărcată cu daru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492360" y="5084640"/>
            <a:ext cx="1374840" cy="12765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1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59640" y="5013360"/>
            <a:ext cx="2087640" cy="158436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395280" y="2852640"/>
            <a:ext cx="8424720" cy="863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333399"/>
                </a:solidFill>
                <a:latin typeface="Arial"/>
              </a:rPr>
              <a:t>Sania </a:t>
            </a:r>
            <a:r>
              <a:rPr b="1" lang="ro-RO" sz="4000" spc="-1" strike="noStrike">
                <a:solidFill>
                  <a:srgbClr val="ff6600"/>
                </a:solidFill>
                <a:latin typeface="Arial"/>
              </a:rPr>
              <a:t>lui</a:t>
            </a:r>
            <a:r>
              <a:rPr b="1" lang="ro-RO" sz="4000" spc="-1" strike="noStrike">
                <a:solidFill>
                  <a:srgbClr val="333399"/>
                </a:solidFill>
                <a:latin typeface="Arial"/>
              </a:rPr>
              <a:t> este încărcată cu daru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3860640"/>
            <a:ext cx="8424720" cy="863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333399"/>
                </a:solidFill>
                <a:latin typeface="Arial"/>
              </a:rPr>
              <a:t>Sania </a:t>
            </a:r>
            <a:r>
              <a:rPr b="1" lang="ro-RO" sz="4000" spc="-1" strike="noStrike">
                <a:solidFill>
                  <a:srgbClr val="ff6600"/>
                </a:solidFill>
                <a:latin typeface="Arial"/>
              </a:rPr>
              <a:t>ei</a:t>
            </a:r>
            <a:r>
              <a:rPr b="1" lang="ro-RO" sz="4000" spc="-1" strike="noStrike">
                <a:solidFill>
                  <a:srgbClr val="333399"/>
                </a:solidFill>
                <a:latin typeface="Arial"/>
              </a:rPr>
              <a:t> este încărcată cu daru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554508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Copiii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s-au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bucurat de daruri frumoa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732720" y="2205000"/>
            <a:ext cx="1806480" cy="1677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2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516720" y="4581360"/>
            <a:ext cx="2305080" cy="194652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sp>
        <p:nvSpPr>
          <p:cNvPr id="224" name=""/>
          <p:cNvSpPr/>
          <p:nvPr/>
        </p:nvSpPr>
        <p:spPr>
          <a:xfrm>
            <a:off x="395280" y="3789360"/>
            <a:ext cx="554508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Copiii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se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bucură de daruri frumoa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29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554508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Ei se dau cu sania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sau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cu schiuril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732720" y="2060640"/>
            <a:ext cx="1806480" cy="1677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3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443640" y="4221000"/>
            <a:ext cx="2305080" cy="194652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395280" y="3860640"/>
            <a:ext cx="554508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Ei se dau cu sania 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ori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cu schiuril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99640" y="1844280"/>
            <a:ext cx="691380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Mama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i-a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1" lang="ro-RO" sz="4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un colăc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635280" y="4869000"/>
            <a:ext cx="1806840" cy="1677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4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588000" y="4797360"/>
            <a:ext cx="2087640" cy="176220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sp>
        <p:nvSpPr>
          <p:cNvPr id="241" name=""/>
          <p:cNvSpPr/>
          <p:nvPr/>
        </p:nvSpPr>
        <p:spPr>
          <a:xfrm>
            <a:off x="900000" y="3284640"/>
            <a:ext cx="6913800" cy="129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Mama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îi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dă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un colăc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5084640"/>
            <a:ext cx="1728720" cy="10098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a l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691344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Bănică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ia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nuci din sa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1806840" cy="1677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5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516720" y="4797360"/>
            <a:ext cx="2087640" cy="176220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611280" y="3213000"/>
            <a:ext cx="784836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Bănică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scoate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nuci din sa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5084640"/>
            <a:ext cx="1728720" cy="10098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a l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720072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Băieţii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iau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zăpada de pe căr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492360" y="4797360"/>
            <a:ext cx="1806840" cy="1677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6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59640" y="4797360"/>
            <a:ext cx="2087640" cy="176220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sp>
        <p:nvSpPr>
          <p:cNvPr id="265" name=""/>
          <p:cNvSpPr/>
          <p:nvPr/>
        </p:nvSpPr>
        <p:spPr>
          <a:xfrm>
            <a:off x="611280" y="3213000"/>
            <a:ext cx="720072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Băieţii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îndepărtează 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zăpada de pe căr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5084640"/>
            <a:ext cx="1728720" cy="10098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a l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8424720" cy="865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Copilul …… jucat cu sani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250920" y="321300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3203640" y="4292640"/>
            <a:ext cx="13669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250920" y="429264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3203640" y="3213000"/>
            <a:ext cx="1512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1547640" y="321300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4859280" y="4292640"/>
            <a:ext cx="165600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1547640" y="429264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4932360" y="3213000"/>
            <a:ext cx="1368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6804000" y="3213000"/>
            <a:ext cx="2089080" cy="187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variant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rect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5445000"/>
            <a:ext cx="2089080" cy="1079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e face c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720072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Pe copii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i-au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găsit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în faţa bradulu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067280" y="4797360"/>
            <a:ext cx="1806480" cy="1677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7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59640" y="4797360"/>
            <a:ext cx="2087640" cy="176220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sp>
        <p:nvSpPr>
          <p:cNvPr id="277" name=""/>
          <p:cNvSpPr/>
          <p:nvPr/>
        </p:nvSpPr>
        <p:spPr>
          <a:xfrm>
            <a:off x="611280" y="3213000"/>
            <a:ext cx="720072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Pe copii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îi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găsesc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în faţa bradulu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lastslide"/>
          </p:cNvPr>
          <p:cNvSpPr/>
          <p:nvPr/>
        </p:nvSpPr>
        <p:spPr>
          <a:xfrm rot="5400000">
            <a:off x="1006920" y="4401360"/>
            <a:ext cx="1584360" cy="2376360"/>
          </a:xfrm>
          <a:custGeom>
            <a:avLst/>
            <a:gdLst>
              <a:gd name="textAreaLeft" fmla="*/ 102600 w 1584360"/>
              <a:gd name="textAreaRight" fmla="*/ 1481760 w 1584360"/>
              <a:gd name="textAreaTop" fmla="*/ 102600 h 2376360"/>
              <a:gd name="textAreaBottom" fmla="*/ 2273760 h 2376360"/>
            </a:gdLst>
            <a:ahLst/>
            <a:rect l="textAreaLeft" t="textAreaTop" r="textAreaRight" b="textAreaBottom"/>
            <a:pathLst>
              <a:path w="21600" h="32395">
                <a:moveTo>
                  <a:pt x="0" y="0"/>
                </a:moveTo>
                <a:lnTo>
                  <a:pt x="21600" y="0"/>
                </a:lnTo>
                <a:lnTo>
                  <a:pt x="21600" y="32395"/>
                </a:lnTo>
                <a:lnTo>
                  <a:pt x="0" y="32395"/>
                </a:lnTo>
                <a:close/>
              </a:path>
              <a:path fill="lightenLess" w="21600" h="323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5">
                <a:moveTo>
                  <a:pt x="21600" y="0"/>
                </a:moveTo>
                <a:lnTo>
                  <a:pt x="21600" y="32395"/>
                </a:lnTo>
                <a:lnTo>
                  <a:pt x="20200" y="30995"/>
                </a:lnTo>
                <a:lnTo>
                  <a:pt x="20200" y="1400"/>
                </a:lnTo>
                <a:close/>
              </a:path>
              <a:path fill="darkenLess" w="21600" h="32395">
                <a:moveTo>
                  <a:pt x="21600" y="32395"/>
                </a:moveTo>
                <a:lnTo>
                  <a:pt x="0" y="32395"/>
                </a:lnTo>
                <a:lnTo>
                  <a:pt x="1400" y="30995"/>
                </a:lnTo>
                <a:lnTo>
                  <a:pt x="20200" y="30995"/>
                </a:lnTo>
                <a:close/>
              </a:path>
              <a:path fill="lighten" w="21600" h="32395">
                <a:moveTo>
                  <a:pt x="0" y="3239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5"/>
                </a:lnTo>
                <a:close/>
              </a:path>
              <a:path fill="darken" w="21600" h="32395">
                <a:moveTo>
                  <a:pt x="14299" y="16198"/>
                </a:moveTo>
                <a:lnTo>
                  <a:pt x="3794" y="23204"/>
                </a:lnTo>
                <a:lnTo>
                  <a:pt x="3794" y="9191"/>
                </a:lnTo>
                <a:close/>
              </a:path>
              <a:path fill="darken" w="21600" h="32395">
                <a:moveTo>
                  <a:pt x="16144" y="9191"/>
                </a:moveTo>
                <a:lnTo>
                  <a:pt x="16144" y="23204"/>
                </a:lnTo>
                <a:lnTo>
                  <a:pt x="17806" y="23204"/>
                </a:lnTo>
                <a:lnTo>
                  <a:pt x="17806" y="9191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1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2819520" cy="24350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828800" y="3952800"/>
            <a:ext cx="2438280" cy="23925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 rot="2750400">
            <a:off x="4836240" y="1283400"/>
            <a:ext cx="327636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 txBox="1"/>
          <p:nvPr/>
        </p:nvSpPr>
        <p:spPr>
          <a:xfrm rot="19364400">
            <a:off x="1687320" y="1260000"/>
            <a:ext cx="327636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3352680"/>
            <a:ext cx="78296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şti foarte bun ! 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652760" y="2894040"/>
            <a:ext cx="58384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 F Â R Ş I T !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9" repeatCount="indefinite">
                                  <p:stCondLst>
                                    <p:cond delay="5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2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2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3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1989000"/>
            <a:ext cx="8569080" cy="865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333399"/>
                </a:solidFill>
                <a:latin typeface="Arial"/>
              </a:rPr>
              <a:t>Sania….. este încărcată cu daru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250920" y="321300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3203640" y="4292640"/>
            <a:ext cx="13669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250920" y="429264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3203640" y="3213000"/>
            <a:ext cx="1512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1547640" y="321300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859280" y="4292640"/>
            <a:ext cx="165600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1547640" y="429264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932360" y="3213000"/>
            <a:ext cx="1368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6804000" y="3213000"/>
            <a:ext cx="2089080" cy="187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variant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rect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445000"/>
            <a:ext cx="2089080" cy="1079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e face c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8569080" cy="865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3399"/>
                </a:solidFill>
                <a:latin typeface="Arial"/>
              </a:rPr>
              <a:t>Copiii….. bucurat de daruri frumo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250920" y="321300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3203640" y="4292640"/>
            <a:ext cx="13669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250920" y="429264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3203640" y="3213000"/>
            <a:ext cx="1512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1547640" y="321300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4859280" y="4292640"/>
            <a:ext cx="165600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1547640" y="429264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4932360" y="3213000"/>
            <a:ext cx="1368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6804000" y="3213000"/>
            <a:ext cx="2089080" cy="187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variant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rect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5445000"/>
            <a:ext cx="2089080" cy="1079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e face c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250920" y="321300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3203640" y="4292640"/>
            <a:ext cx="13669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250920" y="429264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3203640" y="3213000"/>
            <a:ext cx="1512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1547640" y="321300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4859280" y="4292640"/>
            <a:ext cx="165600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1547640" y="429264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4932360" y="3213000"/>
            <a:ext cx="1368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6804000" y="3213000"/>
            <a:ext cx="2089080" cy="187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variant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rect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5445000"/>
            <a:ext cx="2089080" cy="1079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e face c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50920" y="1844280"/>
            <a:ext cx="8208720" cy="7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o-RO" sz="3600" spc="-1" strike="noStrike">
                <a:solidFill>
                  <a:srgbClr val="333399"/>
                </a:solidFill>
                <a:latin typeface="Arial"/>
              </a:rPr>
              <a:t>Ei se dau cu sania …. cu  schiurile 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9:26:26Z</dcterms:created>
  <dc:creator>THX_COMPUTERS</dc:creator>
  <dc:description/>
  <dc:language>en-US</dc:language>
  <cp:lastModifiedBy>THX_COMPUTERS</cp:lastModifiedBy>
  <dcterms:modified xsi:type="dcterms:W3CDTF">2006-12-11T21:12:01Z</dcterms:modified>
  <cp:revision>5</cp:revision>
  <dc:subject/>
  <dc:title>Copilul …… cu sania.</dc:title>
</cp:coreProperties>
</file>